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8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450-6F20-4560-8EB1-A54B9A32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5F5-12FC-4A7E-86BC-E6594CA2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269-80F8-4921-BC6A-5816D0DE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312-3E68-4BC6-A38D-5A0BB96F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C5D9-3717-423D-8A20-A9DC67AD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D0A7-D7EA-40CF-8019-95AA951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1D2C-4B7F-4A4B-A410-D673B2D9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C697-8513-4FB5-AFA2-EF0E4354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0383-880B-4CEB-BECF-936EF827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45D8-4CC0-4A9B-8FBE-247F484C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7611-A683-487C-B34E-515B9945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773-E8BC-4093-A499-7F2E6095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8715-8384-42A6-B0B3-1F67380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6DB6-FBF0-4D27-AE4B-7753B60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9991-C3D6-48E0-8CE4-9CB16F14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9B6E-A753-4652-B40D-0F82EA7F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F6C2-2279-4005-8B7A-FE5FF11B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28C5-0D30-4DE5-B371-FFABC42B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583A-9838-49EC-92B8-F66BAFB2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0D2C-ADAD-4FD7-8274-41FC94B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556E-6FDD-4D3D-931D-117F8002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CF97-B753-43A4-92FF-BF2C2C42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2EA-E30F-4044-9E77-911BD9EA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AFA1-74B0-44A4-BFE9-21C4FDAF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84F2-B4D5-4D0D-949F-EF176020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0E07-41C6-4081-81B3-B02D38C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CCF5-6D9C-4993-AC6A-7C83840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0011-306F-4037-B917-5CB231C8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4C9E-1513-42B3-B3AF-6C12AA12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96C3-F5E2-40E9-8CD3-C344236A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489-B997-4215-AA3B-155EF1E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672-CC78-4557-8589-C55A3549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0F3-1664-49FB-BF2B-A4F03577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DAD-4F28-49CC-A24C-6DF5C5AA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C70-A394-4658-BF88-63B3A16D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778-13F8-4F80-8ADC-4A97598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7D86-9B8E-461A-9F05-8DA42738B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A4FF-6A52-4642-A5A5-BF2ED00E1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D47C-E674-4C7B-B01F-C92462FE1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globaldreamers.org/share/flags/es.gif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globaldreamers.org/share/flags/it.gif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faqs.org/docs/factbook/flags/au-lgflag.gif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images.google.com/imgres?imgurl=http://upload.wikimedia.org/wikipedia/commons/thumb/c/c3/Flag_of_France.svg/800px-Flag_of_France.svg.png&amp;imgrefurl=http://en.wikipedia.org/wiki/Image:Flag_of_France.svg&amp;h=533&amp;w=800&amp;sz=3&amp;hl=en&amp;start=1&amp;um=1&amp;tbnid=iR6Wd70Ru8UYvM:&amp;tbnh=95&amp;tbnw=143&amp;prev=/images%3Fq%3Dflag%2Bof%2Bfrance%26svnum%3D10%26um%3D1%26hl%3Den" TargetMode="External"/><Relationship Id="rId13" Type="http://schemas.openxmlformats.org/officeDocument/2006/relationships/image" Target="../media/image12.jpeg"/><Relationship Id="rId14" Type="http://schemas.openxmlformats.org/officeDocument/2006/relationships/hyperlink" Target="http://images.google.com/imgres?imgurl=http://www.cstl.nist.gov/biotech/strbase/images/uk-flag.jpg&amp;imgrefurl=http://www.cstl.nist.gov/biotech/strbase/coreSTRs.htm&amp;h=239&amp;w=480&amp;sz=20&amp;hl=en&amp;start=4&amp;um=1&amp;tbnid=zX9t20e4gQhnFM:&amp;tbnh=64&amp;tbnw=129&amp;prev=/images%3Fq%3DUK%2Bflag%26svnum%3D10%26um%3D1%26hl%3Den%26sa%3DN" TargetMode="External"/><Relationship Id="rId15" Type="http://schemas.openxmlformats.org/officeDocument/2006/relationships/image" Target="../media/image22.jpe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ttyimages.com/Search/Search.aspx?query=z.i.H4sIAAAAAAAEAO29B2AcSZYlJi9tynt_SvVK1-B0oQiAYBMk2JBAEOzBiM3mkuwdaUcjKasqgcplVmVdZhZAzO2dvPfee--999577733ujudTif33_8_XGZkAWz2zkrayZ4hgKrIHz9-fB8_In7dfLn91etf49f4NX6PX_dskV3kvyb9mtD_f2yS1dO8rJbZr_l_0_Nr_Bq_zq8x_Pya5mdSV1X7MquzRWM--7Xw_92dH6Mfv96719fN6Tvzxq-pf6MFHjT5tR_s7Hm_32MI2bm2-DV-Tf0dr_za2fnUduz_8Wvjgx3ud9G6Nxftr6u__xa_BqNkf91zv95zv953v-7zr78O9VFaePYvdPfr0h_1wmIT_vnr46Nd_PXr8ecTC6PzN792HkKxfzKUHQvlvAPF_c2v1SEU-ydD2bNQ6g4U9zcRNDcv2T_wf6buLv4lCuQr-37w16-VO8De779W3ngf299_7WZl3_w18Yfp-LeyL15O3YuX019bf_8t8feO_W3f_raL336dqvaYzf7FX01y_yv8ZWAy5z3c2fF-3_V-Z-78tWdXSwPq1zR_QEB-nWY9cUMM_vq188yNwf-Dfl_5X9g_ft0mgBb--Wu_e_bccb_3x29L___1i-W0XM9ybpjVHq7eH_L8PyzOESQABAAA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gettyimages.com/Search/Search.aspx?query=z.i.H4sIAAAAAAAEAO29B2AcSZYlJi9tynt_SvVK1-B0oQiAYBMk2JBAEOzBiM3mkuwdaUcjKasqgcplVmVdZhZAzO2dvPfee--999577733ujudTif33_8_XGZkAWz2zkrayZ4hgKrIHz9-fB8_In7dfLn91etf49f4NX6PX_dskV3kvyb9mtD_f2yS1dO8rJbZr_l_0_Nr_Bq_zq8x_Pya5mdSV1X7MquzRWM--7Xw_92dH6Mfv96719fN6Tvzxq-pf6MFHjT5tR_s7Hm_32MI2bm2-DV-Tf0dr_za2fnUduz_8Wvjgx3ud9G6Nxftr6u__xa_BqNkf91zv95zv953v-7zr78O9VFaePYvdPfr0h_1wmIT_vnr46Nd_PXr8ecTC6PzN792HkKxfzKUHQvlvAPF_c2v1SEU-ydD2bNQ6g4U9zcRNDcv2T_wf6buLv4lCuQr-37w16-VO8De779W3ngf299_7WZl3_w18Yfp-LeyL15O3YuX019bf_8t8feO_W3f_raL336dqvaYzf7FX01y_yv8ZWAy5z3c2fF-3_V-Z-78tWdXSwPq1zR_QEB-nWY9cUMM_vq188yNwf-Dfl_5X9g_ft0mgBb--Wu_e_bccb_3x29L___1i-W0XM9ybpjVHq7eH_L8PyzOESQABAAA" TargetMode="External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upload.wikimedia.org/wikipedia/commons/thumb/c/c3/Flag_of_France.svg/800px-Flag_of_France.svg.png&amp;imgrefurl=http://en.wikipedia.org/wiki/Image:Flag_of_France.svg&amp;h=533&amp;w=800&amp;sz=3&amp;hl=en&amp;start=1&amp;um=1&amp;tbnid=iR6Wd70Ru8UYvM:&amp;tbnh=95&amp;tbnw=143&amp;prev=/images%3Fq%3Dflag%2Bof%2Bfrance%26svnum%3D10%26um%3D1%26hl%3Den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faqs.org/docs/factbook/flags/au-lgflag.gif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globaldreamers.org/share/flags/es.gif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lobaldreamers.org/share/flags/it.gif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faqs.org/docs/factbook/flags/au-lgflag.gif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upload.wikimedia.org/wikipedia/commons/thumb/c/c3/Flag_of_France.svg/800px-Flag_of_France.svg.png&amp;imgrefurl=http://en.wikipedia.org/wiki/Image:Flag_of_France.svg&amp;h=533&amp;w=800&amp;sz=3&amp;hl=en&amp;start=1&amp;um=1&amp;tbnid=iR6Wd70Ru8UYvM:&amp;tbnh=95&amp;tbnw=143&amp;prev=/images%3Fq%3Dflag%2Bof%2Bfrance%26svnum%3D10%26um%3D1%26hl%3Den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48000" y="1915920"/>
            <a:ext cx="2519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0560" y="3284640"/>
            <a:ext cx="309708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rew Amend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dward Gonz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iagozie Nwabu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ah Tomberl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amila Willi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8576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315200" cy="4795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164360" y="2852640"/>
            <a:ext cx="156204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588000" y="1197000"/>
            <a:ext cx="2232000" cy="863640"/>
          </a:xfrm>
          <a:prstGeom prst="wedgeRoundRectCallout">
            <a:avLst>
              <a:gd name="adj1" fmla="val -18847"/>
              <a:gd name="adj2" fmla="val 141912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hatner Says: Don’t even think about taking the Eurai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ot of destinations abr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58920" cy="239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358560" cy="27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03640" y="4870440"/>
            <a:ext cx="431640" cy="287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4797360"/>
            <a:ext cx="360360" cy="23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292720" y="3429000"/>
            <a:ext cx="358920" cy="239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76720" y="3262320"/>
            <a:ext cx="358560" cy="23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844720" y="2567160"/>
            <a:ext cx="4320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ed Cash flow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2082" t="17052" r="54168" b="56275"/>
          <a:stretch/>
        </p:blipFill>
        <p:spPr>
          <a:xfrm>
            <a:off x="468360" y="2133720"/>
            <a:ext cx="5600520" cy="2057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Come on cupcake, bid lower - up to half off on hotels - Name your own price and save - GO"/>
          <p:cNvPicPr/>
          <p:nvPr/>
        </p:nvPicPr>
        <p:blipFill>
          <a:blip r:embed="rId3"/>
          <a:srcRect l="0" t="0" r="0" b="32365"/>
          <a:stretch/>
        </p:blipFill>
        <p:spPr>
          <a:xfrm>
            <a:off x="6300720" y="2492280"/>
            <a:ext cx="26640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n and standard deviation of flight costs and sav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6251" t="19075" r="56252" b="47982"/>
          <a:stretch/>
        </p:blipFill>
        <p:spPr>
          <a:xfrm>
            <a:off x="1692360" y="1700280"/>
            <a:ext cx="5600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ke into account variable flight costs and sav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2082" t="16580" r="43751" b="58386"/>
          <a:stretch/>
        </p:blipFill>
        <p:spPr>
          <a:xfrm>
            <a:off x="250920" y="2565360"/>
            <a:ext cx="6172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ed Cash flow and s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2070" t="38150" r="75002" b="27170"/>
          <a:stretch/>
        </p:blipFill>
        <p:spPr>
          <a:xfrm>
            <a:off x="2133720" y="2286000"/>
            <a:ext cx="40003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164360" y="2781360"/>
            <a:ext cx="1562040" cy="1371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is a 55.6% probability that we will be positive cash f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rcRect l="8935" t="14902" r="48891" b="35423"/>
          <a:stretch/>
        </p:blipFill>
        <p:spPr>
          <a:xfrm>
            <a:off x="684360" y="1773360"/>
            <a:ext cx="5111640" cy="345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12000" y="1700280"/>
            <a:ext cx="1439640" cy="1152360"/>
          </a:xfrm>
          <a:prstGeom prst="wedgeRoundRectCallout">
            <a:avLst>
              <a:gd name="adj1" fmla="val 47351"/>
              <a:gd name="adj2" fmla="val 6473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o you’re saying there’s a chan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096920"/>
            <a:ext cx="57610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Rock the Reichstag in Berl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Visit the little mermaid in Copenha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Go Gaudi in Barcel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Party in P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Move to Mozart in Vien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Re-live the Gladiator in 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 still have $728.50 for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 don’t forget to feed the ca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View image det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1195560"/>
            <a:ext cx="1152720" cy="766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View image detai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51640" y="1557360"/>
            <a:ext cx="963720" cy="133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View image detail"/>
          <p:cNvPicPr/>
          <p:nvPr/>
        </p:nvPicPr>
        <p:blipFill>
          <a:blip r:embed="rId6"/>
          <a:stretch/>
        </p:blipFill>
        <p:spPr>
          <a:xfrm>
            <a:off x="6300720" y="2205000"/>
            <a:ext cx="762120" cy="1187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View image detail"/>
          <p:cNvPicPr/>
          <p:nvPr/>
        </p:nvPicPr>
        <p:blipFill>
          <a:blip r:embed="rId7"/>
          <a:stretch/>
        </p:blipFill>
        <p:spPr>
          <a:xfrm>
            <a:off x="7236000" y="2997360"/>
            <a:ext cx="1618920" cy="1076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View image detail"/>
          <p:cNvPicPr/>
          <p:nvPr/>
        </p:nvPicPr>
        <p:blipFill>
          <a:blip r:embed="rId8"/>
          <a:stretch/>
        </p:blipFill>
        <p:spPr>
          <a:xfrm>
            <a:off x="6012000" y="3645000"/>
            <a:ext cx="107604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View image detail"/>
          <p:cNvPicPr/>
          <p:nvPr/>
        </p:nvPicPr>
        <p:blipFill>
          <a:blip r:embed="rId9"/>
          <a:stretch/>
        </p:blipFill>
        <p:spPr>
          <a:xfrm>
            <a:off x="7308720" y="4221000"/>
            <a:ext cx="16192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3810240" cy="3838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36720" y="2349360"/>
            <a:ext cx="2232000" cy="1079640"/>
          </a:xfrm>
          <a:prstGeom prst="wedgeRoundRectCallout">
            <a:avLst>
              <a:gd name="adj1" fmla="val 67569"/>
              <a:gd name="adj2" fmla="val 6367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t room in your suitca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View image det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1619280" cy="107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View image detai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206064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ission:  Maximize our traveling during a semester abroad at L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been tasked with saving enough money to travel for 6 weeks to 6 different European countries from March - Apr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to fly back to London each Saturday to feed the cat and walk the d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pick the order of the cities by minimizing the cost of the tr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ant to determine the likelihood of being able to save enough money to fund the tr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s and Recommend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Itinera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en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cel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16720" y="3429000"/>
            <a:ext cx="2448000" cy="1757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995640" y="2179800"/>
            <a:ext cx="720720" cy="482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995640" y="2781360"/>
            <a:ext cx="719280" cy="542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3429000"/>
            <a:ext cx="7146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02120" y="5229360"/>
            <a:ext cx="71424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95640" y="4581360"/>
            <a:ext cx="720720" cy="482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95640" y="4005360"/>
            <a:ext cx="720720" cy="479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08720" y="2205000"/>
            <a:ext cx="2448000" cy="1728720"/>
          </a:xfrm>
          <a:prstGeom prst="wedgeRoundRectCallout">
            <a:avLst>
              <a:gd name="adj1" fmla="val 47601"/>
              <a:gd name="adj2" fmla="val 6533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1844640"/>
            <a:ext cx="2737080" cy="1832040"/>
          </a:xfrm>
          <a:prstGeom prst="wedgeRoundRectCallout">
            <a:avLst>
              <a:gd name="adj1" fmla="val 43212"/>
              <a:gd name="adj2" fmla="val 9367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tner S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llow this order for greater savin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ize Total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 of travel restricted to Sunday through Satur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ing money per city between $300 - 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 will always be British Air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el chain will always be Hilt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of 6 specific 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city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epeat 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43280" y="4437000"/>
            <a:ext cx="40323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s to consi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2082" t="20103" r="39968" b="13268"/>
          <a:stretch/>
        </p:blipFill>
        <p:spPr>
          <a:xfrm>
            <a:off x="684360" y="1557360"/>
            <a:ext cx="5371920" cy="3714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020000" y="2060640"/>
            <a:ext cx="1852560" cy="2538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00720" y="1700280"/>
            <a:ext cx="1440000" cy="863640"/>
          </a:xfrm>
          <a:prstGeom prst="wedgeRoundRectCallout">
            <a:avLst>
              <a:gd name="adj1" fmla="val 45587"/>
              <a:gd name="adj2" fmla="val 72611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You can go lower than that, darli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nning the solver yields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082" t="20812" r="39584" b="43366"/>
          <a:stretch/>
        </p:blipFill>
        <p:spPr>
          <a:xfrm>
            <a:off x="324000" y="2349360"/>
            <a:ext cx="560052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0876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32102" t="34764" r="31990" b="37505"/>
          <a:stretch/>
        </p:blipFill>
        <p:spPr>
          <a:xfrm>
            <a:off x="3924360" y="1916280"/>
            <a:ext cx="4824360" cy="2233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2028600" cy="1933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79640" y="2205000"/>
            <a:ext cx="1944720" cy="1295280"/>
          </a:xfrm>
          <a:prstGeom prst="wedgeRoundRectCallout">
            <a:avLst>
              <a:gd name="adj1" fmla="val -43550"/>
              <a:gd name="adj2" fmla="val 5661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hatner Says: Tame Solver by inputting the right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nning the solver yields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2082" t="20812" r="39584" b="43366"/>
          <a:stretch/>
        </p:blipFill>
        <p:spPr>
          <a:xfrm>
            <a:off x="324000" y="2349360"/>
            <a:ext cx="5600520" cy="20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0876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20:09:33Z</dcterms:created>
  <dc:creator>Mediac</dc:creator>
  <dc:description/>
  <dc:language>en-US</dc:language>
  <cp:lastModifiedBy>Jamila Williams</cp:lastModifiedBy>
  <dcterms:modified xsi:type="dcterms:W3CDTF">2007-11-26T17:32:45Z</dcterms:modified>
  <cp:revision>19</cp:revision>
  <dc:subject/>
  <dc:title>Presentation  Name</dc:title>
</cp:coreProperties>
</file>